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4177-5564-4413-A003-47F4655E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6AD1-35DD-43F8-969E-C99BCEF4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8648-E20D-4D21-BF42-3B489A3F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0A47-DAB9-440F-92C6-36991D1D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369B-6A44-4627-8F45-7C6EABA5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E6D-0FA4-4254-A64C-F4EAF04F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52A7-65AE-45B8-B21B-E3E57C50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B7C-0248-4F83-B59D-4EC48B45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DF8A-1968-4158-9FD1-830CE79E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E30-0AF4-4E71-B9B9-A3A95E43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441-463C-4339-AC22-AEE1EDCC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4BF3-6AA9-4F72-B5D8-7878EF06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D946-12F2-4710-8024-7AB2D3D9F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aneta@ptaron.co.il" TargetMode="External"/><Relationship Id="rId3" Type="http://schemas.openxmlformats.org/officeDocument/2006/relationships/hyperlink" Target="http://www.ptaron.co.il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600" spc="-1" strike="noStrike">
                <a:solidFill>
                  <a:srgbClr val="9933ff"/>
                </a:solidFill>
                <a:latin typeface="Arial"/>
                <a:cs typeface="Guttman Yad-Brush"/>
              </a:rPr>
              <a:t>מהו הביטוי העיברי המסתתר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4941720"/>
            <a:ext cx="547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66ff"/>
                </a:solidFill>
                <a:latin typeface="Arial"/>
                <a:cs typeface="Guttman Yad-Brush"/>
              </a:rPr>
              <a:t>אין צורך ללחוץ על העכב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66ff"/>
                </a:solidFill>
                <a:latin typeface="Arial"/>
                <a:cs typeface="Guttman Yad-Brush"/>
              </a:rPr>
              <a:t>התשובה תופיע לאחר כמה שניו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100"/>
                            </p:stCondLst>
                            <p:childTnLst>
                              <p:par>
                                <p:cTn id="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13640" y="1484280"/>
            <a:ext cx="70358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0" spc="-1" strike="noStrike">
                <a:solidFill>
                  <a:srgbClr val="000000"/>
                </a:solidFill>
                <a:latin typeface="Arial"/>
              </a:rPr>
              <a:t>טוב   טוב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0" y="2060640"/>
            <a:ext cx="1224000" cy="1584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1989000"/>
            <a:ext cx="3240360" cy="15112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33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Guttman Yad-Brush"/>
              </a:rPr>
              <a:t>חידה מס'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Guttman Yad-Brush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1640" y="4581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Arial"/>
                <a:cs typeface="Guttman Yad-Brush"/>
              </a:rPr>
              <a:t>מהו הביטו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6000" y="-1035000"/>
            <a:ext cx="7201080" cy="59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928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לעשות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64360" y="33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Guttman Yad-Brush"/>
              </a:rPr>
              <a:t>חידה מס'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Guttman Yad-Brush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4581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Arial"/>
                <a:cs typeface="Guttman Yad-Brush"/>
              </a:rPr>
              <a:t>מהו הביטו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50640" y="1437480"/>
            <a:ext cx="67568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0" spc="-1" strike="noStrike">
                <a:solidFill>
                  <a:srgbClr val="000000"/>
                </a:solidFill>
                <a:latin typeface="Arial"/>
              </a:rPr>
              <a:t>ה ל י ל ה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95640" y="1916280"/>
            <a:ext cx="1297080" cy="1368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33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Guttman Yad-Brush"/>
              </a:rPr>
              <a:t>חידה מס'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Guttman Yad-Brush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4581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Arial"/>
                <a:cs typeface="Guttman Yad-Brush"/>
              </a:rPr>
              <a:t>מהו הביטו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96680" y="1483560"/>
            <a:ext cx="414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5000" spc="-1" strike="noStrike">
                <a:solidFill>
                  <a:srgbClr val="000000"/>
                </a:solidFill>
                <a:latin typeface="Arial"/>
              </a:rPr>
              <a:t>יתל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4360" y="33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Guttman Yad-Brush"/>
              </a:rPr>
              <a:t>חידה מס'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Guttman Yad-Brush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4581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Arial"/>
                <a:cs typeface="Guttman Yad-Brush"/>
              </a:rPr>
              <a:t>מהו הביטו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9079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66ff"/>
                </a:solidFill>
                <a:latin typeface="Arial"/>
                <a:cs typeface="Guttman Yad-Brush"/>
              </a:rPr>
              <a:t>אחרונה וחביב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3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1" dur="3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549360"/>
            <a:ext cx="88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9933ff"/>
                </a:solidFill>
                <a:latin typeface="Arial"/>
                <a:cs typeface="Guttman Yad-Brush"/>
              </a:rPr>
              <a:t>במידה והצלחתם לפתור בכוחות עצמכם, מגיע לכם כל הכבוד. במידה ולא הצלחתם, לא נורא. תמיד אפשר לנסות שוב מחר. </a:t>
            </a:r>
            <a:br>
              <a:rPr sz="2800"/>
            </a:br>
            <a:r>
              <a:rPr b="0" lang="he-IL" sz="2800" spc="-1" strike="noStrike">
                <a:solidFill>
                  <a:srgbClr val="9933ff"/>
                </a:solidFill>
                <a:latin typeface="Arial"/>
                <a:cs typeface="Guttman Yad-Brush"/>
              </a:rPr>
              <a:t>לקבלת הפתרונות וחידות נוספות, התקשרו או שילחו מיי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3573360"/>
            <a:ext cx="4325760" cy="302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356000" y="4005360"/>
            <a:ext cx="4392720" cy="2064600"/>
          </a:xfrm>
          <a:prstGeom prst="rect">
            <a:avLst/>
          </a:prstGeom>
          <a:noFill/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aneta@ptaron.co.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ptaron.co.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052-85124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6165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remove" presetClass="emph" presetID="15" repeatCount="100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11280" y="333000"/>
            <a:ext cx="424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</a:rPr>
              <a:t>חב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</a:rPr>
              <a:t>זמ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472428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חבל על הזמ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33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Guttman Yad-Brush"/>
              </a:rPr>
              <a:t>חידה מס'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Guttman Yad-Brush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6720" y="450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Arial"/>
                <a:cs typeface="Guttman Yad-Brush"/>
              </a:rPr>
              <a:t>הביטוי הוא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630864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630252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800"/>
                            </p:stCondLst>
                            <p:childTnLst>
                              <p:par>
                                <p:cTn id="3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8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932360" y="0"/>
            <a:ext cx="338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000000"/>
                </a:solidFill>
                <a:latin typeface="Arial"/>
              </a:rPr>
              <a:t>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----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000000"/>
                </a:solidFill>
                <a:latin typeface="Arial"/>
              </a:rPr>
              <a:t>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0"/>
            <a:ext cx="431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ש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000000"/>
                </a:solidFill>
                <a:latin typeface="Arial"/>
              </a:rPr>
              <a:t>ו ------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ש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4724280"/>
            <a:ext cx="59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Arial"/>
              </a:rPr>
              <a:t>עין תחת עין ושן תחת ש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4360" y="33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Guttman Yad-Brush"/>
              </a:rPr>
              <a:t>חידה מס'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Guttman Yad-Brush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48360" y="450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Arial"/>
                <a:cs typeface="Guttman Yad-Brush"/>
              </a:rPr>
              <a:t>הביטוי הוא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40">
                                  <p:stCondLst>
                                    <p:cond delay="4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404800" y="691560"/>
            <a:ext cx="443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600" spc="-1" strike="noStrike">
                <a:solidFill>
                  <a:srgbClr val="000000"/>
                </a:solidFill>
                <a:latin typeface="Arial"/>
                <a:cs typeface="Guttman Yad-Brush"/>
              </a:rPr>
              <a:t>ג       ב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44080" y="3788280"/>
            <a:ext cx="333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עיניים בגב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33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Guttman Yad-Brush"/>
              </a:rPr>
              <a:t>חידה מס'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Guttman Yad-Brush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Arial"/>
                <a:cs typeface="Guttman Yad-Brush"/>
              </a:rPr>
              <a:t>הביטוי הוא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1640" y="765000"/>
            <a:ext cx="39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600" spc="-1" strike="noStrike">
                <a:solidFill>
                  <a:srgbClr val="000000"/>
                </a:solidFill>
                <a:latin typeface="Arial"/>
                <a:cs typeface="Guttman Yad-Brush"/>
              </a:rPr>
              <a:t>עעע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765000"/>
            <a:ext cx="0" cy="939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05240" y="170640"/>
            <a:ext cx="2232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600" spc="-1" strike="noStrike">
                <a:solidFill>
                  <a:srgbClr val="000000"/>
                </a:solidFill>
                <a:latin typeface="Arial"/>
                <a:cs typeface="Times New Roman"/>
              </a:rPr>
              <a:t>אב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5040" y="3788280"/>
            <a:ext cx="277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בית אב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4360" y="33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Guttman Yad-Brush"/>
              </a:rPr>
              <a:t>חידה מס'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Guttman Yad-Brush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Arial"/>
                <a:cs typeface="Guttman Yad-Brush"/>
              </a:rPr>
              <a:t>הביטוי הוא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6" presetSubtype="3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8" dur="3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95360" y="691560"/>
            <a:ext cx="327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0" spc="-1" strike="noStrike">
                <a:solidFill>
                  <a:srgbClr val="000000"/>
                </a:solidFill>
                <a:latin typeface="Arial"/>
              </a:rPr>
              <a:t>הרע</a:t>
            </a: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1960" y="1278000"/>
            <a:ext cx="80028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801960" y="1278000"/>
            <a:ext cx="91440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96000" y="3859560"/>
            <a:ext cx="346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בלי עין הר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4360" y="33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Guttman Yad-Brush"/>
              </a:rPr>
              <a:t>חידה מס'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Guttman Yad-Brush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600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Arial"/>
                <a:cs typeface="Guttman Yad-Brush"/>
              </a:rPr>
              <a:t>הביטוי הוא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35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042920" y="836640"/>
            <a:ext cx="75376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20644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חוֹם חוֹם חוֹם חוֹ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3322080" y="3859920"/>
            <a:ext cx="253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Arial"/>
              </a:rPr>
              <a:t>גלי חו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4360" y="33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Guttman Yad-Brush"/>
              </a:rPr>
              <a:t>חידה מס'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Guttman Yad-Brush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92720" y="3860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Arial"/>
                <a:cs typeface="Guttman Yad-Brush"/>
              </a:rPr>
              <a:t>הביטוי הוא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25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105480" y="836280"/>
            <a:ext cx="92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לוח עבר הווה עתיד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0440" y="4004280"/>
            <a:ext cx="31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לוח זמנים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33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Guttman Yad-Brush"/>
              </a:rPr>
              <a:t>חידה מס'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Guttman Yad-Brush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400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ff"/>
                </a:solidFill>
                <a:latin typeface="Arial"/>
                <a:cs typeface="Guttman Yad-Brush"/>
              </a:rPr>
              <a:t>הביטוי הוא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300"/>
                            </p:stCondLst>
                            <p:childTnLst>
                              <p:par>
                                <p:cTn id="1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3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980480" y="181944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549360"/>
            <a:ext cx="77756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9933ff"/>
                </a:solidFill>
                <a:latin typeface="Arial"/>
                <a:cs typeface="Guttman Yad-Brush"/>
              </a:rPr>
              <a:t>מכאן תנס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33ff"/>
                </a:solidFill>
                <a:latin typeface="Arial"/>
                <a:ea typeface="Guttman Yad-Brush"/>
              </a:rPr>
              <a:t> בעצמכם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4869000"/>
            <a:ext cx="2592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5300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9966ff"/>
                </a:solidFill>
                <a:uFillTx/>
                <a:latin typeface="Arial"/>
                <a:cs typeface="Guttman Yad-Brush"/>
              </a:rPr>
              <a:t>ומעכשיו כבר בלי התשובו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630864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כל הזכויות שמור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204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205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xit" presetID="9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08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9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9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8:14:28Z</dcterms:created>
  <dc:creator>JJ</dc:creator>
  <dc:description/>
  <dc:language>en-US</dc:language>
  <cp:lastModifiedBy>JJ</cp:lastModifiedBy>
  <dcterms:modified xsi:type="dcterms:W3CDTF">2010-02-21T17:09:21Z</dcterms:modified>
  <cp:revision>63</cp:revision>
  <dc:subject/>
  <dc:title>מהו הביטוי העיברי המסתתר ?</dc:title>
</cp:coreProperties>
</file>