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EBD-77EF-46BE-974D-978E7D91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6D9-DD06-4953-8B09-1BDDEADC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1A1-D667-40C8-8365-DFF3700C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A10-F484-4FA7-9049-E9A045F0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802-EAE3-4C6C-A8AC-FCD121B5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1DF-6167-470D-8CA9-051B187C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F40-CCCE-4E54-9AD2-B9C131DF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B86-34FB-4DC6-BC29-1200E3DA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447-D940-4966-B659-A351CCB0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EC3-524B-4527-B350-4171928C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C24-5543-43C5-B718-5C478B99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C4E-C3D0-4433-BA39-9F14C127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5AF7-39A1-4290-9F34-723BC3DB0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aneta@ptaron.co.il" TargetMode="External"/><Relationship Id="rId3" Type="http://schemas.openxmlformats.org/officeDocument/2006/relationships/hyperlink" Target="http://www.ptaron.co.il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9933ff"/>
                </a:solidFill>
                <a:latin typeface="Arial"/>
                <a:cs typeface="Guttman Yad-Brush"/>
              </a:rPr>
              <a:t>מהו הביטוי העיברי המסתתר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4941720"/>
            <a:ext cx="547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ff"/>
                </a:solidFill>
                <a:latin typeface="Arial"/>
                <a:cs typeface="Guttman Yad-Brush"/>
              </a:rPr>
              <a:t>אין צורך ללחוץ על העכב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ff"/>
                </a:solidFill>
                <a:latin typeface="Arial"/>
                <a:cs typeface="Guttman Yad-Brush"/>
              </a:rPr>
              <a:t>התשובה תופיע לאחר כמה שניו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100"/>
                            </p:stCondLst>
                            <p:childTnLst>
                              <p:par>
                                <p:cTn id="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13640" y="1484280"/>
            <a:ext cx="70358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0" spc="-1" strike="noStrike">
                <a:solidFill>
                  <a:srgbClr val="000000"/>
                </a:solidFill>
                <a:latin typeface="Arial"/>
              </a:rPr>
              <a:t>טוב   טוב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2060640"/>
            <a:ext cx="1224000" cy="1584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989000"/>
            <a:ext cx="3240360" cy="15112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מהו הביטו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6000" y="-1035000"/>
            <a:ext cx="720108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928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לעשו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מהו הביטו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50640" y="1437480"/>
            <a:ext cx="67568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0" spc="-1" strike="noStrike">
                <a:solidFill>
                  <a:srgbClr val="000000"/>
                </a:solidFill>
                <a:latin typeface="Arial"/>
              </a:rPr>
              <a:t>ה ל י ל ה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1916280"/>
            <a:ext cx="1297080" cy="136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מהו הביטו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96680" y="1483560"/>
            <a:ext cx="414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5000" spc="-1" strike="noStrike">
                <a:solidFill>
                  <a:srgbClr val="000000"/>
                </a:solidFill>
                <a:latin typeface="Arial"/>
              </a:rPr>
              <a:t>יתל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מהו הביטו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9079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ff"/>
                </a:solidFill>
                <a:latin typeface="Arial"/>
                <a:cs typeface="Guttman Yad-Brush"/>
              </a:rPr>
              <a:t>אחרונה וחביב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49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33ff"/>
                </a:solidFill>
                <a:latin typeface="Arial"/>
                <a:cs typeface="Guttman Yad-Brush"/>
              </a:rPr>
              <a:t>במידה והצלחתם לפתור בכוחות עצמכם, מגיע לכם כל הכבוד. במידה ולא הצלחתם, לא נורא. תמיד אפשר לנסות שוב מחר. </a:t>
            </a:r>
            <a:br>
              <a:rPr sz="2800"/>
            </a:br>
            <a:r>
              <a:rPr b="0" lang="he-IL" sz="2800" spc="-1" strike="noStrike">
                <a:solidFill>
                  <a:srgbClr val="9933ff"/>
                </a:solidFill>
                <a:latin typeface="Arial"/>
                <a:cs typeface="Guttman Yad-Brush"/>
              </a:rPr>
              <a:t>לקבלת הפתרונות וחידות נוספות, התקשרו או שילחו מיי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4325760" cy="302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56000" y="4005360"/>
            <a:ext cx="4392720" cy="2064600"/>
          </a:xfrm>
          <a:prstGeom prst="rect">
            <a:avLst/>
          </a:prstGeom>
          <a:noFill/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aneta@ptaron.co.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taron.co.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052-85124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6165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remove" presetClass="emph" presetID="15" repeatCount="100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333000"/>
            <a:ext cx="42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חב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זמ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4724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חבל על הזמ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45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308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630252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0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8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32360" y="0"/>
            <a:ext cx="338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0"/>
            <a:ext cx="431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ש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ו ----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ש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72428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</a:rPr>
              <a:t>עין תחת עין ושן תחת ש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04800" y="691560"/>
            <a:ext cx="443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  <a:cs typeface="Guttman Yad-Brush"/>
              </a:rPr>
              <a:t>ג       ב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44080" y="3788280"/>
            <a:ext cx="33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עיניים בגב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765000"/>
            <a:ext cx="39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  <a:cs typeface="Guttman Yad-Brush"/>
              </a:rPr>
              <a:t>עעע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765000"/>
            <a:ext cx="0" cy="939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05240" y="170640"/>
            <a:ext cx="2232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  <a:cs typeface="Times New Roman"/>
              </a:rPr>
              <a:t>אב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5040" y="3788280"/>
            <a:ext cx="27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בית אב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6" presetSubtype="3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95360" y="691560"/>
            <a:ext cx="327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0" spc="-1" strike="noStrike">
                <a:solidFill>
                  <a:srgbClr val="000000"/>
                </a:solidFill>
                <a:latin typeface="Arial"/>
              </a:rPr>
              <a:t>הרע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1960" y="1278000"/>
            <a:ext cx="80028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1960" y="1278000"/>
            <a:ext cx="9144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96000" y="3859560"/>
            <a:ext cx="346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בלי עין הר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2920" y="836640"/>
            <a:ext cx="75376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20644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חוֹם חוֹם חוֹם חוֹ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322080" y="385992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</a:rPr>
              <a:t>גלי חו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38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105480" y="836280"/>
            <a:ext cx="92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לוח עבר הווה עתיד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0440" y="4004280"/>
            <a:ext cx="31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לוח זמנים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400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300"/>
                            </p:stCondLst>
                            <p:childTnLst>
                              <p:par>
                                <p:cTn id="1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3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980480" y="181944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549360"/>
            <a:ext cx="77756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9933ff"/>
                </a:solidFill>
                <a:latin typeface="Arial"/>
                <a:cs typeface="Guttman Yad-Brush"/>
              </a:rPr>
              <a:t>מכאן תנס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33ff"/>
                </a:solidFill>
                <a:latin typeface="Arial"/>
                <a:ea typeface="Guttman Yad-Brush"/>
              </a:rPr>
              <a:t> בעצמכם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5300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9966ff"/>
                </a:solidFill>
                <a:uFillTx/>
                <a:latin typeface="Arial"/>
                <a:cs typeface="Guttman Yad-Brush"/>
              </a:rPr>
              <a:t>ומעכשיו כבר בלי התשובו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0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xit" presetID="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0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14:28Z</dcterms:created>
  <dc:creator>JJ</dc:creator>
  <dc:description/>
  <dc:language>en-US</dc:language>
  <cp:lastModifiedBy>JJ</cp:lastModifiedBy>
  <dcterms:modified xsi:type="dcterms:W3CDTF">2010-02-21T17:09:21Z</dcterms:modified>
  <cp:revision>63</cp:revision>
  <dc:subject/>
  <dc:title>מהו הביטוי העיברי המסתתר ?</dc:title>
</cp:coreProperties>
</file>